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E02-23ED-4A91-A17C-88C05BB0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469-32CD-4E61-93A0-2C21126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42EC7-9CDF-4628-9B14-7908060F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0D387-9037-4506-97E3-96F83C15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5007C-9F18-4133-926E-3EE84DBA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63F22-A877-4F38-A221-3FAD076B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B23BE-E6B3-4731-9D19-15ADE3ED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F2081-6FF3-4F9A-8F02-8B96246B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858F-6948-45E7-98D4-6BBF8EA5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6D371-1D2F-4A6E-A3C5-C7F2216E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BB5D2-CFCB-4D1D-9935-0DFD07A4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EAD80-79CC-4E1F-ADAC-1344F2B1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73E-A747-4268-9262-4DF5B985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9CFD4-FFE7-4FFB-814B-930FAC69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D8557-27D7-4779-990E-72D98364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54FC8-606E-471B-99F4-D0C2BCE3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93619-D976-4132-A6AA-A7A9D49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EAAA5-3DB1-4DF2-B86D-2009181E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6296F-53B7-42FE-964A-CABCC6FC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01690-5F7C-4811-B89F-4D2D927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3A9DA-EF93-437E-87B3-055DBE2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6A2D7-F353-464D-B98E-BF99B17E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45785-7D68-46A4-A875-A6157523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1D1-9D71-4939-9992-6DC3A815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23833-0708-4ECB-9B06-145D21A3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FBA58-49B7-4789-8CBB-51CA1FE6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C7355-848E-491A-9E6D-9603BA9E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9AEAE-9EE9-4FE0-BCC1-9AFD31E7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BB683-72FC-42C1-9AFE-0EBD4A16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4E09F-5FAD-4F33-8C1D-02AA5B1F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748B7-08B7-4123-B957-0AC6FFF1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D1E27-4B9D-4902-902A-97CC8AE3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9E7A0-B9C2-4F89-9E0F-E8660FD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A3BD2-917C-4A9F-8DDB-D8B15A6B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01B7-00A0-4286-9C2C-D8D039E4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2C3B6-566F-462D-911A-3060514B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2756-E582-48E4-B6EE-27004195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03A88-9FFE-481D-8B7D-BC554573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E214D-6AFC-4DA7-9BF6-752A43C7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3CC0E-4E21-47F6-8AD7-79CD327B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263CC-B77E-4C2A-9BF3-F11FB05B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A6D1A-BDCA-45BD-91EF-CA549BA7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3AF92-8F37-42A7-A4BD-2ECC1E7A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A9590-E4B3-4E6B-998C-47D73FFE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DFDB4-0317-4137-8859-52A787EF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B74-85F7-41FD-8687-D34B7F72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5C275-4AE4-44EA-AC35-3CAD990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FFD9C-61E1-48AF-AE99-E71C69BD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EC8AA-6E7A-416A-8970-E7F43BDA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01915-9DB3-4873-BD0A-A779AEE6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85866-747A-4139-8CF5-05F3CF51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D81B-9F78-49FB-8804-7CC7F7DA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A9AB-CE0F-4477-B508-876A8FD1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F839-5BE7-4954-A3B9-147FD51F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0E5-46BC-4521-A9AF-740DF79E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76CF-0A47-45D3-9E33-2BA63687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67A-BBD0-4F45-9C76-4F977D89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314A-9D43-4246-BF57-99226A84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3B10-7E31-4293-B404-0312CE4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1987-458C-411F-B6D0-6100F447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2635-D818-4FE6-BFEC-8C9C5CDB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B970-91CD-431B-A803-81EA8629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EBE0-7FE1-4B51-A5D2-497834EA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3591-A6B3-4EE4-A7D2-427C1B61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72D2-20FF-4C13-AF2E-F89E6BC5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90D1-90DC-4E6E-852D-B0737841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C4B8-238E-43A7-B20F-DEB341F7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D0A-38C9-41DC-8338-4C3DA327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15F0-5EF1-45F9-AA2F-4E6DF108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8975-78B3-483F-82DD-7F806D60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79B2-2E95-43A6-8B07-B9E03549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E992-26D1-4712-A242-9B91477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967B-E348-4C7B-AB52-91E293B7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729A-E6DE-4FE9-9B99-7D392AA0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A9F1-83CE-422D-B931-00E3D304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64DB-826B-4611-A1B2-81D9D2A8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181A-E720-430D-86EF-DB0875C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627C-9D1E-45BD-AD0B-E8C60836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254-2081-4138-B941-AD1CED3D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10D3-FDA7-44AA-A47F-B5FC9EAB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9F33-C22A-458A-9B18-657BEEDB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765F-BE99-4166-AE8C-92734EC7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CEC42-CE01-4BDF-A42E-5B8D818F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8017-1AF1-420E-B7B1-0FE08EF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1636D-C4FD-401B-BC2F-460CAEC6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5BAC-A97D-472D-B023-794E102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4568-D291-453A-9717-50D3EE16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D805D-2BB4-4E5E-ACCF-20C21E8A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054C4-D9DD-4F89-8B15-52494EFD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4FE-5823-4883-93FD-669E7821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9A57E-38D4-45D8-B615-B2A4A615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6F29-BE5A-42E2-A3EB-FD8E2D63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EEAF-3544-4627-8161-6FB1C553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8402C-9FF3-4615-8951-A5111FAA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8B6A8-F6B6-460A-8D44-5CD76081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181B-9408-45ED-B53B-603D65C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DE95-0FCB-41C4-B729-BD762003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4627-7DC9-4055-926A-76263F6D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CAD98-0A7B-4B29-B254-81AA3FD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83FA7-346E-432A-8B33-28350255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868-DF1A-4A81-AD92-7E8BCE64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C008-6CB1-4B83-836C-9F7C726A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BA170-F08F-4C12-BE8E-87F26D32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AC01D-76C5-403D-9903-A0BBDA6F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98C4B-156C-4814-9239-AE780F8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345B8-F246-4942-B8F6-87DFA55A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BA916-C97F-4A23-9564-86691A4D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CBAD0-4DAF-4B82-9844-F0C3E244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3DF6B-F175-4E55-9626-4E23B021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06CFA-420D-478E-AA3A-326AD38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198B9-CFF8-4B28-ACFE-1B4E4724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2FB-0CDE-40FE-902C-0448932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1B695-4B0E-4181-8ABD-DCA5CE03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377F-D833-4ED8-8EF0-C98CC347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829FF-3CF4-4407-8BD2-3FD0F270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73720-7D0E-466F-9213-470260BC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B74B1-6087-4402-894E-B76C69D4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2A02-4679-481F-BE08-28008FA4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8C865-C983-4701-826D-BF124A20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6295B-A3F4-4BBA-879D-24550BF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BE76B-78DD-4A2F-8203-692BC1E4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065A6-6C59-4618-9564-4825848B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1C7-8F7D-4F89-A4CA-A28ED79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32341-4FF9-4E8E-A707-A027EE45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19498-6446-4493-AF5A-EA90F722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DE026-9CA6-4C34-9B65-57AF1E74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A9663-0497-491C-9CC5-8D5069F2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EC706-FD11-4C30-AAE1-326D2DDB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9C6B4-EF91-421A-9504-5D27A12C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E2838-E2D6-4132-8254-49E821B3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73C50-C793-45F7-8C08-2E8CBA20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48886-C27B-41F3-A15B-5CB0BB31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1E332-09B2-463C-A873-A06F5891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D25-B829-45A6-B97E-A7990A5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56927-6557-4C99-BE11-6F427E5E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C3011-F9E8-4D42-ACF8-6359F816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FF654-62FF-40B5-B3AE-B254C7F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DB92C-DC04-4125-9CB3-91EDA84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BFE3D-B26F-428C-90FE-D069300A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8DD4-023A-4785-BC6E-5C59265A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477CC-44D7-4D09-AF0A-ABFA4B26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59C47-EE10-4569-AFC1-BB098A8D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10C65-8B00-45ED-8C59-F28FF53B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9CD04-1C4C-43AA-8F68-160C4B01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D301-3E10-443B-B7B0-DCB0C58EF2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CCA-701B-4AE7-A987-E275BC761F2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4DB7-A7D0-4971-AF01-C89DAE197AF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A9A6-8424-424F-B4A1-297C5A1774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5A91-338B-4149-9E21-08516B5F00A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D677-0DD6-4D52-ABAB-9DB6A598F47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D7B7-DCB4-49B3-BB14-5DF72138CE0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661B-81B4-4854-899C-FCBCCBF3EDD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85B4-19F4-4B56-B379-023E84761E2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297F-2061-406E-A454-C4510E584A2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6282-7E54-4F92-BFE3-9B3C4752AEA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331F-CE3C-4256-917C-F4B442A89E6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5 V Kristovi len, duša mil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ristovi len, duša mil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jdeš pokoj, radosť, mier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je odpočinok, si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mu svoje srdce z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kto iný v šírom sve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íši bôľ tvoj, hlad a smäd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jeho ranách ukrytý 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aženosti večn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nepokoja, biedy sve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mätku srdca, jarma vín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chráni ťa láska svä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rú zjavil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čo hľadáš ustavi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o, čo je bezcenné?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erlou, ktorá trvá večne: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žiš – naš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ľahni sa len na Kris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melo dúfaj, pevne ver;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ho rada je vždy ist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á aj tvojmu srdcu sm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pomoc ti dary Duch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ove pravdy zasľúbi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imi spásu večnú nú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a kríži vydobyl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30:51Z</dcterms:modified>
  <cp:revision>21</cp:revision>
  <dc:subject/>
  <dc:title>Je veľký náš Pán, on slávy je Kráľ Nech do všetkých strán  spev vrúcnych znie chvál.</dc:title>
</cp:coreProperties>
</file>